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14851"/>
        <c:axId val="94697037"/>
      </c:barChart>
      <c:catAx>
        <c:axId val="66414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97037"/>
        <c:crosses val="autoZero"/>
        <c:auto val="1"/>
        <c:lblAlgn val="ctr"/>
        <c:lblOffset val="100"/>
        <c:noMultiLvlLbl val="0"/>
      </c:catAx>
      <c:valAx>
        <c:axId val="94697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4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E79-AE28-41AA-AD67-1A0339C7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3C5-D63E-4BB7-83E7-98D63811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FEF-FCD4-490E-B2AD-6FAB0EF9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233-C506-4B24-BDE2-B67E6EF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CB2-DB83-4C39-A9B4-127E4FE0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BBF-E65E-492A-87D7-851A83B2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41A-6F56-46FD-9A71-CACED24B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55C-EC3F-4684-8ED6-2016C678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F58-254A-4AC2-AA58-5319F298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08A-2877-4E78-B893-9FFCF6E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185-6193-4EA3-8DF8-D18CEC0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334-C694-4D7B-9214-3596A67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2AC88-54A1-47C0-9B22-E3489BF01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