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91898"/>
        <c:axId val="19455220"/>
      </c:barChart>
      <c:catAx>
        <c:axId val="12291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55220"/>
        <c:crosses val="autoZero"/>
        <c:auto val="1"/>
        <c:lblAlgn val="ctr"/>
        <c:lblOffset val="100"/>
        <c:noMultiLvlLbl val="0"/>
      </c:catAx>
      <c:valAx>
        <c:axId val="19455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91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17B-7F0C-43A9-8FAD-13707986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F6A-2D1B-4E28-98F4-CF0960C4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358-1C60-45C8-88A9-623FA36F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CE1-2629-4BCC-BA0E-5BE34CF0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D353-D3F0-4FD3-A152-0C8F49E4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8F0-33C6-49CE-9331-7D65DA9C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ABC-99CB-4BAE-8098-17854FB3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4B5-9320-4FF6-A2A3-ADF20111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E6C-8565-41CA-84DA-7190D224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FF5-F6B4-41B9-A8AA-0105A99A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630-DAA5-45E9-84FE-1A52DD57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C43-0B24-4659-B1EA-DD3BD0C2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10924-8237-4129-8B41-DA73D4A798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