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00472"/>
        <c:axId val="11576278"/>
      </c:barChart>
      <c:catAx>
        <c:axId val="98500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76278"/>
        <c:crosses val="autoZero"/>
        <c:auto val="1"/>
        <c:lblAlgn val="ctr"/>
        <c:lblOffset val="100"/>
        <c:noMultiLvlLbl val="0"/>
      </c:catAx>
      <c:valAx>
        <c:axId val="11576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00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FC9-47AF-4F7C-BCA3-81B49C1D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F6D-7954-4D59-BA2F-F553AB5B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021-3F9F-4AB0-B0D4-8E244D6F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699-E69B-4352-9A5C-91D21F41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823-51FC-414A-90D7-598E0FCC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824-07A5-43D7-8719-40D9552D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AE8-8812-4F41-900A-CDBCDF32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24B-4875-4DFB-90AC-FD64688F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F74-D38B-473F-B362-7CFDF290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9EE-B21C-46CA-8BAA-E953062A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D1F-E316-4CE4-A9A5-DA66885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2AD-1AB8-45E7-B478-D35C58E3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8A2D7-5F26-4389-B6B8-2B4FC05A86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