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042445"/>
        <c:axId val="53200202"/>
      </c:barChart>
      <c:catAx>
        <c:axId val="190424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00202"/>
        <c:crosses val="autoZero"/>
        <c:auto val="1"/>
        <c:lblAlgn val="ctr"/>
        <c:lblOffset val="100"/>
        <c:noMultiLvlLbl val="0"/>
      </c:catAx>
      <c:valAx>
        <c:axId val="532002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424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F636-129D-49FC-8A19-F5385CEB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AA9-9512-487C-A909-DCC9AEE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86A-0704-4911-A2BE-3A9CEA9F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371-3AFE-4D15-B624-50C233F4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E58-B985-4B11-80DE-B6E75EE6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44D-75F2-4BFA-A5F0-F7B0A90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149-62ED-466A-A5D9-049272D9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4B9-D702-4A3F-AB8B-3DB7D4C3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DC4-B5D3-412D-A376-44B4589C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5CE-4DAA-48DB-B677-F1F248CD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E2A3-D446-4E0C-A1B5-399AFE9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3E6-4021-49D7-8FC1-D42707A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8694E-89ED-4BEE-88CA-87DB9F83E2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