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334188"/>
        <c:axId val="42463301"/>
      </c:barChart>
      <c:catAx>
        <c:axId val="633341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63301"/>
        <c:crosses val="autoZero"/>
        <c:auto val="1"/>
        <c:lblAlgn val="ctr"/>
        <c:lblOffset val="100"/>
        <c:noMultiLvlLbl val="0"/>
      </c:catAx>
      <c:valAx>
        <c:axId val="424633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341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0702-D55E-4F95-A926-0A5B92C5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3551-8569-4093-ADEF-3F4157E2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59EC-0A18-4B74-9312-944835D5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C64F-8864-4F3D-BB43-497FA2A5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4710-3D23-4AFE-98B9-28808F6E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6782-AA51-4BC2-A236-3219C7AD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6D03-BF33-4CA3-9BEC-4AFE38E1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114A-23A5-41C5-9088-28A8455E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CAB-E05C-4EE2-990E-591183EE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8386-5C1C-4327-B46A-D6F96A12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164B-C17A-4894-A1F1-41B7FD44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C91E-4252-4B20-B7E3-7CD33D7A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77049-5A94-4741-B1CD-7A886F7D33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