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74060"/>
        <c:axId val="6413106"/>
      </c:barChart>
      <c:catAx>
        <c:axId val="55474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3106"/>
        <c:crosses val="autoZero"/>
        <c:auto val="1"/>
        <c:lblAlgn val="ctr"/>
        <c:lblOffset val="100"/>
        <c:noMultiLvlLbl val="0"/>
      </c:catAx>
      <c:valAx>
        <c:axId val="6413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74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8F2-B988-4373-B3EA-39DBAB7E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430-7D5D-4AAD-85AD-61F32FFF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8F0-C3B2-44FE-9C8C-6BF4C871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862-6A1E-4088-BE1B-4E892F55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FEC-3203-4D23-83F4-502117DB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F72-6257-4FB2-9A14-22DBC3C1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860-1212-43DE-A8C9-AD384BB4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FD8-0456-4CB1-8E52-B4CE4864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AE3-72C7-433D-864F-5E512770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24D-42C7-4FDE-885E-AA01393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69B-0839-46F9-9E81-DC984F9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358-D24F-48E9-9507-8B8D8782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21045-B367-4BE0-A859-40C46157E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