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393096"/>
        <c:axId val="71174405"/>
      </c:barChart>
      <c:catAx>
        <c:axId val="783930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74405"/>
        <c:crosses val="autoZero"/>
        <c:auto val="1"/>
        <c:lblAlgn val="ctr"/>
        <c:lblOffset val="100"/>
        <c:noMultiLvlLbl val="0"/>
      </c:catAx>
      <c:valAx>
        <c:axId val="711744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930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94B0-6E64-4671-87D5-F9230B6AA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EE62-E168-4448-8F0D-3C5D29C5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FEB0-F809-4394-A20A-B2CC1BE3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C7DC-18F3-44F5-9B92-FC4342FDC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2437-07D0-43D4-B387-E38DC80E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92AB-ACB6-45BC-803D-F29B1138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8403-519F-42CC-B8FE-3AAFF376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3ABD-47FD-413C-B512-BD52B93F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C2B2-8164-46EC-9DF6-CD091852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4366-140C-4DF5-9F80-F1104D7B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5516-43BA-415E-8246-2D9BD871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7ABE-DE2C-41A5-A81F-163E0151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08388-19B6-48D0-BECD-CE5F1A40DC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