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42164"/>
        <c:axId val="60203752"/>
      </c:barChart>
      <c:catAx>
        <c:axId val="97042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03752"/>
        <c:crosses val="autoZero"/>
        <c:auto val="1"/>
        <c:lblAlgn val="ctr"/>
        <c:lblOffset val="100"/>
        <c:noMultiLvlLbl val="0"/>
      </c:catAx>
      <c:valAx>
        <c:axId val="60203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42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9E2-EB04-4692-AD84-BBA4D924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195-E42F-4704-AC2E-7E74F806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AAA-6A7A-4394-9D05-E43F3CA2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B5C-92A8-4382-AEB1-505A962D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FFF-0765-4C1F-8D99-E596EDBF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2E5-91F3-46F6-B3F8-3AB1CF05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FAF-99AF-4ED3-8F29-1486DB84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B81-A673-4E1E-A8FB-0581B0BD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A84-8CC1-4AB8-AAB2-14FFCD57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733-BB8B-40D7-9AE2-107F746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973-814B-4AE7-9184-7160867C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093-4791-495F-9191-0DFF014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40F32-63DC-463A-A069-6427474281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