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175729"/>
        <c:axId val="33378093"/>
      </c:barChart>
      <c:catAx>
        <c:axId val="72175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78093"/>
        <c:crosses val="autoZero"/>
        <c:auto val="1"/>
        <c:lblAlgn val="ctr"/>
        <c:lblOffset val="100"/>
        <c:noMultiLvlLbl val="0"/>
      </c:catAx>
      <c:valAx>
        <c:axId val="333780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75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15F-E409-4C26-8F9F-99144927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AA85-523F-46F9-B0A1-7EAF68E0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3459-E0FF-4FED-B999-6A7CCFA7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A7F-3ED8-4565-A2F0-A425EC11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920-CDB1-47D1-9A5B-8254B904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A2A-AE2F-4030-A5D7-B8EBE920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97A-475C-40C6-B785-42809AD1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EE2B-E97D-4FEE-A5D7-A7EF61FC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3211-01D1-4AB3-9974-5A968BC0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64B-9EB3-4500-B0CE-49FE74F0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EFB-1290-4C24-A48F-B3364B05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EA22-A643-4B2A-B4C7-ACF3DBB8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EE3EB-6E5E-4EA8-AE0C-A556470200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