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86173"/>
        <c:axId val="58937116"/>
      </c:barChart>
      <c:catAx>
        <c:axId val="55086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37116"/>
        <c:crosses val="autoZero"/>
        <c:auto val="1"/>
        <c:lblAlgn val="ctr"/>
        <c:lblOffset val="100"/>
        <c:noMultiLvlLbl val="0"/>
      </c:catAx>
      <c:valAx>
        <c:axId val="58937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86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4FE-8F9D-4A3A-A81E-9BB85F5D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790-DBFE-4471-B5B6-E23580C9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D66-DF20-4791-80BF-9CEC47CE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5ED-725A-482A-877A-388A62C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156-C080-4B2A-A3D0-120F42C3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689-5AD7-4171-AB22-467A320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634-0E5C-40A4-8081-861D165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973-3549-4CB0-A238-FF139C05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906-B37D-4053-A031-3E93F8CC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D23-61DC-4348-BAB6-0886300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C3D-3284-4C34-9FED-4E4497A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4D1-961C-406C-A30F-86F6322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874E5-5FB4-49A3-94A7-345D7E60A9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