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79006"/>
        <c:axId val="9392761"/>
      </c:barChart>
      <c:catAx>
        <c:axId val="49179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2761"/>
        <c:crosses val="autoZero"/>
        <c:auto val="1"/>
        <c:lblAlgn val="ctr"/>
        <c:lblOffset val="100"/>
        <c:noMultiLvlLbl val="0"/>
      </c:catAx>
      <c:valAx>
        <c:axId val="9392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79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DE1-0D89-4EE4-B95C-73A73249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F71-235F-4D29-A74E-B1EA3619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8DC-6CE7-4F36-A70C-F16397C7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F85-680E-48F2-BADE-68E2543D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8ED-942F-473F-AB03-D3B1C4B9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570-403A-4D6A-B451-A55E6830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F94-5451-4FD0-B2BC-BA1C70B9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FD11-FD2D-475F-BDCA-F607078A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F8E-7387-49EA-9F49-49C9741B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92D-8DA8-44DF-B519-498FD0D0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632-7FF1-4305-96EE-BF6EE75F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45E-25AF-4D76-92FE-2474CEEC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A5883-2E78-44F9-B71D-B96056A3D7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