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05826"/>
        <c:axId val="92909558"/>
      </c:barChart>
      <c:catAx>
        <c:axId val="95205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09558"/>
        <c:crosses val="autoZero"/>
        <c:auto val="1"/>
        <c:lblAlgn val="ctr"/>
        <c:lblOffset val="100"/>
        <c:noMultiLvlLbl val="0"/>
      </c:catAx>
      <c:valAx>
        <c:axId val="92909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05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EA9-3DA6-4E7F-A5D6-15DA43A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382-24D3-4465-9C8B-100D3E0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50E3-C056-4CD1-8640-3B23654C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FAD-B006-4638-91EA-42DF3211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DCB-A780-4CF4-A574-443F64F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F0E-BCA3-46DD-8CD6-7F270088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3665-9BA6-4638-A340-9E720309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747-E93D-4D4C-BC08-4593020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963D-4A88-4101-9F28-0DFB8EC4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0A4-A67F-4FC4-899F-1A8CA464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160-77B6-4A28-8002-77E2EE23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F11-BA88-4C1E-B257-6536625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FF6D7-1316-48B6-BBCB-0F624FC02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