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60105"/>
        <c:axId val="12353443"/>
      </c:barChart>
      <c:catAx>
        <c:axId val="83360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3443"/>
        <c:crosses val="autoZero"/>
        <c:auto val="1"/>
        <c:lblAlgn val="ctr"/>
        <c:lblOffset val="100"/>
        <c:noMultiLvlLbl val="0"/>
      </c:catAx>
      <c:valAx>
        <c:axId val="12353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60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9F1-EEC4-4D48-A1A2-CB12CFF5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BD0-0FE2-4B99-9F65-488D468D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904-F87F-4959-A519-D3D036A5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7C0-A803-4F30-A346-A9414E8D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8F5-0898-496D-B9FD-C23E0C4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E24-559F-4C01-8028-FB319FD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6E4-4F8F-4577-95D1-D46997B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31E-6919-4EAA-851C-065EF78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4E8-7F67-483A-8053-F49EEC60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735-EB4A-4CFF-8434-E790EDBB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251-FDB1-416B-925C-37DE45C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A7F-8AFE-4F46-9F29-7A52D43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5F8B-9C90-4480-B7B9-C181CFFFF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