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00538"/>
        <c:axId val="73220875"/>
      </c:barChart>
      <c:catAx>
        <c:axId val="60300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20875"/>
        <c:crosses val="autoZero"/>
        <c:auto val="1"/>
        <c:lblAlgn val="ctr"/>
        <c:lblOffset val="100"/>
        <c:noMultiLvlLbl val="0"/>
      </c:catAx>
      <c:valAx>
        <c:axId val="73220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00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BD2-7368-4EB0-AF48-50C02C35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15F-9D8E-477B-B3E2-DD69C23B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A5D-4CC8-4A0A-964E-E74FE007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3CB-3193-4301-B546-F3FD8F56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0C2-827B-4D10-B88B-EAE745A7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D46-E3E9-4C88-AD97-F774A694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B44-8447-4CC2-8050-484D6B90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311-6EEF-4365-BE24-2FC3CFCF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017-34E1-4F2D-B343-56782BEB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49A-F74B-4124-8527-0E36B100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FBB-AB1B-4461-B204-ED216705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A7D-4305-4E97-9B9B-52D83281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2AC83-43E4-445A-96A2-DB962C1418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