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14065"/>
        <c:axId val="76821076"/>
      </c:barChart>
      <c:catAx>
        <c:axId val="3671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1076"/>
        <c:crosses val="autoZero"/>
        <c:auto val="1"/>
        <c:lblAlgn val="ctr"/>
        <c:lblOffset val="100"/>
        <c:noMultiLvlLbl val="0"/>
      </c:catAx>
      <c:valAx>
        <c:axId val="76821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1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C31-7A0A-4085-ACB2-89E91959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C2C-D7BE-4C92-BD3E-867A05F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878-6396-4E15-93FB-65D2C079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C4E-916A-433F-A228-E673548E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A94-711B-4D19-89B6-10E9F378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015-C576-47FE-B9FF-BD2F965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6EA-66A1-4351-A3E9-720BA079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951-1F0D-4232-BF57-DAE5907E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F02-B748-4152-8079-91BC897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159-99FB-4B76-9BB2-263D45CB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E13-472F-493C-A22D-22AD064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45C-0112-4525-AE12-DF2AB0C9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29A04-21EE-4864-A359-166227A76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