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21288"/>
        <c:axId val="77523195"/>
      </c:barChart>
      <c:catAx>
        <c:axId val="518212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23195"/>
        <c:crosses val="autoZero"/>
        <c:auto val="1"/>
        <c:lblAlgn val="ctr"/>
        <c:lblOffset val="100"/>
        <c:noMultiLvlLbl val="0"/>
      </c:catAx>
      <c:valAx>
        <c:axId val="77523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212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6448-1339-4715-8DBC-1EE17D59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70C-FBA0-4A3C-BE9D-024E26A7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644-07A0-4139-9115-9AA0E9DA8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B29-4D0B-4381-B2F8-FEC74D59A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5A5-69F8-463B-8069-1AA89A98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F19-FC19-45EE-8CBD-683195B0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5E8-BB31-4078-AACD-D7E7E342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1C48-8CA8-4E3F-9E98-A72204F3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5A4-16EB-4D08-9DC6-E2B07C6A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FC8E-CBC1-49BA-9793-48A71E73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5340-0256-4340-951D-0C6C0213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141-9491-4F22-ABC9-52E92255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18CC9-024A-4565-85EC-7D4107D67D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