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72859"/>
        <c:axId val="4869401"/>
      </c:barChart>
      <c:catAx>
        <c:axId val="23472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9401"/>
        <c:crosses val="autoZero"/>
        <c:auto val="1"/>
        <c:lblAlgn val="ctr"/>
        <c:lblOffset val="100"/>
        <c:noMultiLvlLbl val="0"/>
      </c:catAx>
      <c:valAx>
        <c:axId val="4869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2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81E-CF19-4998-8AFD-FECF61E7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5AD-2958-4659-A259-DE8713A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4AB-C75B-4780-A717-5DAAF7D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00E-238B-4DD9-B9F8-192E1BB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A6D-CA7C-48F7-A2B8-19867895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78D-BC7B-46EB-A151-C6C03E9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92E-27A9-4317-AC0D-1B333E2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001-9E67-41B8-90D8-4FA1C34D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485-856E-4159-9B05-CDDC3B7C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537-C3D9-44EA-A98B-413A811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9B4-7C9E-4D59-A628-4C58220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94A-C1A8-4275-BF12-68437A2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75867-6773-4C9F-A518-FA94E0022C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