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08129"/>
        <c:axId val="48795413"/>
      </c:barChart>
      <c:catAx>
        <c:axId val="80708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95413"/>
        <c:crosses val="autoZero"/>
        <c:auto val="1"/>
        <c:lblAlgn val="ctr"/>
        <c:lblOffset val="100"/>
        <c:noMultiLvlLbl val="0"/>
      </c:catAx>
      <c:valAx>
        <c:axId val="48795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08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E19-6743-4D29-A435-AA890725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54C-02EC-4C7E-A45C-8A6FBF16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12D-A136-4631-B68E-C5C5AABC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7F3-9072-45F6-86A5-9AAE3BC8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FA45-958B-4FFD-B435-8C5F9D58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3DD-B47E-4B7F-8A41-3F7FCB9E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D0FA-F9A1-4578-8950-A5B815E5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ACD8-EEAA-4E03-9B97-0991C2DE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391-31CF-41D7-8E78-E3801E3E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A7B7-B6A6-49E8-B501-D628F067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8BC-30F3-4392-9B9C-D0ABFA23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0B8C-BC93-4EEF-9CB3-97194DD0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EFC8F-3FE9-43CC-9BC0-437411C077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