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0490"/>
        <c:axId val="3257420"/>
      </c:barChart>
      <c:catAx>
        <c:axId val="9460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420"/>
        <c:crosses val="autoZero"/>
        <c:auto val="1"/>
        <c:lblAlgn val="ctr"/>
        <c:lblOffset val="100"/>
        <c:noMultiLvlLbl val="0"/>
      </c:catAx>
      <c:valAx>
        <c:axId val="3257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0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551-57C2-4328-93A2-45EC7D2F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621-0392-4EDD-A541-91616840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0B3-6102-4347-880E-69AF0CAF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389-1043-4DF2-91D1-CEB99440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4B1-EBF4-4D5C-A647-0F05B20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990-0B9F-4CB3-A849-183AB77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B0D-9FF7-47DD-9426-A1B68B3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45F-EBCF-4B53-A8F6-032EB48A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E2B-98CD-4C23-817B-CAC96C4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C9E-CDC6-436C-A9AF-57752E6D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B72-389C-456C-96DD-0B6D39F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562-EE7F-4C4F-9136-BDB0A7B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7DDB2-093E-48B9-A24A-C9AB34446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