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02487"/>
        <c:axId val="84671470"/>
      </c:barChart>
      <c:catAx>
        <c:axId val="77102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71470"/>
        <c:crosses val="autoZero"/>
        <c:auto val="1"/>
        <c:lblAlgn val="ctr"/>
        <c:lblOffset val="100"/>
        <c:noMultiLvlLbl val="0"/>
      </c:catAx>
      <c:valAx>
        <c:axId val="84671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02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503-8F72-4BDB-B1D9-D5109B5D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4EA-6036-4B9D-9F33-B0F42FCB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921-E266-4AE4-B229-754F947B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A67-A1C0-41E4-8885-3EF9583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9F5-5B9C-4D6D-874C-845183C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10B-D3BD-42FB-8CEE-F20421F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49F-A401-4467-BE35-F995A97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ABD-B037-4C8D-8772-06954DA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229-4C38-4BF1-819A-490BFA27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F36-3657-460D-84BF-A9AAB14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B46-FEE6-4110-B0FF-853E0E1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2A3-BE29-4EE7-B8BC-DC35959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37006-A184-40E5-928F-0D9140064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