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40263"/>
        <c:axId val="57766985"/>
      </c:barChart>
      <c:catAx>
        <c:axId val="64640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66985"/>
        <c:crosses val="autoZero"/>
        <c:auto val="1"/>
        <c:lblAlgn val="ctr"/>
        <c:lblOffset val="100"/>
        <c:noMultiLvlLbl val="0"/>
      </c:catAx>
      <c:valAx>
        <c:axId val="57766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40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346-C8D5-441F-B06F-5A68CC5C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066-FF95-4697-A3E5-12842348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DEF-0095-463D-A692-07AEF789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6D3-110C-4671-8466-CC7503BB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443-B394-4C12-82D4-2803E0BF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380-F05E-405A-9A36-0DBF0B6E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088-7317-48DF-BD7A-CB5CBC98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025-7579-459A-816F-3F24B1E5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49D-68DD-4778-9DA7-3DD0C69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343-473A-4D99-8B80-88C987C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9D7-CB88-4398-8CE3-0109D877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AEA-DA67-4CB8-8DEF-2F82D6E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12E8A-B213-418A-94A9-95A31D662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