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8566"/>
        <c:axId val="75280147"/>
      </c:barChart>
      <c:catAx>
        <c:axId val="6988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0147"/>
        <c:crosses val="autoZero"/>
        <c:auto val="1"/>
        <c:lblAlgn val="ctr"/>
        <c:lblOffset val="100"/>
        <c:noMultiLvlLbl val="0"/>
      </c:catAx>
      <c:valAx>
        <c:axId val="75280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8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C11-1C70-4384-8812-CC0B5838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15B-427E-4D51-9B3F-0D84781B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106-6733-4BBE-BF6A-760D04D9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416-3AD8-4FD8-9368-44D6E587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14E-F7EE-43C5-B3FC-D1302E9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199-F5F5-4968-9F3C-F5DC53A1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85D-1E8C-4F3E-B4DF-654834C2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D65-A6F1-4380-AEE8-870CF4C6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4FF-71B4-4ABA-8118-DE5F5A7C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D7C-D365-4713-81AD-54CC83A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329-F898-42AE-B8B3-AE044203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C12-7ABF-4EDC-82E1-9F4F7790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2C1A5-1CCF-4F29-BDF8-5B2711CA5B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