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51404"/>
        <c:axId val="15949174"/>
      </c:barChart>
      <c:catAx>
        <c:axId val="73551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949174"/>
        <c:crosses val="autoZero"/>
        <c:auto val="1"/>
        <c:lblAlgn val="ctr"/>
        <c:lblOffset val="100"/>
        <c:noMultiLvlLbl val="0"/>
      </c:catAx>
      <c:valAx>
        <c:axId val="15949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51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999-AF92-4DDF-B32B-B55C2CDE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F5C8-8013-416D-A681-872BB2C3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FE67-2ED7-4520-A5D2-4D83CDF9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465-03C5-431B-A7B8-6B0C5D60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81B1-B74A-4158-836E-8CF0AC90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4AE-464F-4071-8694-A0E89FA2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56BD-33DB-4698-981A-57730E81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EC12-1D77-4F5D-B2BB-993E1657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748-D38F-4A28-A3F5-145D274C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E203-6EEB-467D-A210-C2F59801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5499-EE4C-469A-BC7E-210B6967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A52-AD94-4DB0-BBF0-7BFC64F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03E1D-CCE0-4C34-ACE8-D47D52F87B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