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60054"/>
        <c:axId val="49830234"/>
      </c:barChart>
      <c:catAx>
        <c:axId val="72660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30234"/>
        <c:crosses val="autoZero"/>
        <c:auto val="1"/>
        <c:lblAlgn val="ctr"/>
        <c:lblOffset val="100"/>
        <c:noMultiLvlLbl val="0"/>
      </c:catAx>
      <c:valAx>
        <c:axId val="49830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60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A86-1313-4BCF-A29A-04228605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D8A-B095-4384-BC58-4ED3A034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971-6EE3-4E56-8FE1-8A7CE2FC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84E-8603-4A0A-99A0-DBAA3799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FFF-575E-447D-8ED1-F688D705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EF2-35F7-4CE2-8D5F-779A5800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70E-3878-49A3-A379-61584D45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639-3D56-4122-A2EA-226BDF21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0C6-BFEF-4E54-973B-1B754694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BBB-D299-48E1-9575-2092FA5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85F-8477-4637-90D1-7073507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04C-8B41-4496-8190-28AD74F5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478EF-D688-48A4-BC32-AB631E5C09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