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35415"/>
        <c:axId val="51645580"/>
      </c:barChart>
      <c:catAx>
        <c:axId val="53635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45580"/>
        <c:crosses val="autoZero"/>
        <c:auto val="1"/>
        <c:lblAlgn val="ctr"/>
        <c:lblOffset val="100"/>
        <c:noMultiLvlLbl val="0"/>
      </c:catAx>
      <c:valAx>
        <c:axId val="51645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5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419-2EED-44FA-9436-6650588A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457-4826-4B44-9FCA-EA68DF48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E72-197B-4819-A9B8-4CD98C2D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6B6-91FA-4424-93AE-4229491E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0A7-2B3A-42CE-85A0-C9B9F63F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824-890B-49EB-A65E-1E0C6DC4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144-B9D3-4E41-A4F6-C28F88C2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297-44EF-42E3-B3FD-C9B6719C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7D5-9453-4647-896A-BA159931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D49-DEDA-4934-BBD3-AB86166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80B-E441-4370-9D2F-93FAB57A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AE6-A031-409F-B047-BDEDCF4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4E6B2-3160-4DBD-B45F-D7328E5772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