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28890"/>
        <c:axId val="3832688"/>
      </c:barChart>
      <c:catAx>
        <c:axId val="63628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2688"/>
        <c:crosses val="autoZero"/>
        <c:auto val="1"/>
        <c:lblAlgn val="ctr"/>
        <c:lblOffset val="100"/>
        <c:noMultiLvlLbl val="0"/>
      </c:catAx>
      <c:valAx>
        <c:axId val="38326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28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F66-EF26-4AA5-8066-D8BCCB97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B55-BA0D-41E0-B7F4-0A6B762B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E2C-AFBC-4B2F-957F-13A5DF66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8FE-93C8-4FCA-8443-6EB6B373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040-4006-4A22-8C53-E7E00697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A618-8EE5-4248-8B49-8E110613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BC0-D95D-48FD-8F65-778596BE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B67-5C86-4081-B676-AAA78F2A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3AE-4175-415F-B46A-7168FBCB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8CC9-3838-4D8D-B07C-932D9008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84F-D021-4580-A2C9-6AA05E95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2188-2FC0-4E87-8C3F-8311A348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51D8D-9D6D-40F1-A4F7-2FCD03C1CD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