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536904"/>
        <c:axId val="78445258"/>
      </c:barChart>
      <c:catAx>
        <c:axId val="735369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45258"/>
        <c:crosses val="autoZero"/>
        <c:auto val="1"/>
        <c:lblAlgn val="ctr"/>
        <c:lblOffset val="100"/>
        <c:noMultiLvlLbl val="0"/>
      </c:catAx>
      <c:valAx>
        <c:axId val="784452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5369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F87C-967D-40CE-8DD6-9AB52FDB8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436B-8E40-4C68-A03D-04380CC2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925C-38AE-4472-86C3-34FFA1E7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E276-F057-400E-A88C-BA2D6E54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51A4-1938-4861-BF81-621EC562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2420-0638-456D-832C-4BAEF331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21AF-4F54-43D4-9AC1-BFFFF826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AAB1-E0FA-4DD1-8978-4B9497A6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5A34-5D48-4ACE-ADC6-66F6B405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1016-0064-4A64-9111-77E27FA7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5519-7BFB-488E-BDD8-48875B14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B197-A320-48A6-8CA7-D6053366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70BB6-5EB2-4179-8D7F-B5629C289A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