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94092"/>
        <c:axId val="31933804"/>
      </c:barChart>
      <c:catAx>
        <c:axId val="51194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33804"/>
        <c:crosses val="autoZero"/>
        <c:auto val="1"/>
        <c:lblAlgn val="ctr"/>
        <c:lblOffset val="100"/>
        <c:noMultiLvlLbl val="0"/>
      </c:catAx>
      <c:valAx>
        <c:axId val="31933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94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060C-DAEE-4366-8A03-CC0CC732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A67-21E3-410A-991D-BF5B02BE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85DA-CC27-41CB-B4C2-3A996DB1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2C5-FA23-422F-9627-3EAC9A94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FA67-AF47-40AB-B1F8-F7D2A7A5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370-EFA1-4778-9BD8-E89413E6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A8B-B0CE-47FA-BAF6-C8DED27A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4D3C-3714-48A6-A72A-FA41811E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F68-8445-473F-AEEA-CD456551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8CE-ED12-4A7D-96DA-D489DFEA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90F-1F28-4CEF-94B2-E9D89793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3B9-2CED-41A3-B58D-467CEB37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A0931-9CB4-4FF9-A84E-F772B5255B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