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1081159"/>
        <c:axId val="60198124"/>
      </c:barChart>
      <c:catAx>
        <c:axId val="3108115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198124"/>
        <c:crosses val="autoZero"/>
        <c:auto val="1"/>
        <c:lblAlgn val="ctr"/>
        <c:lblOffset val="100"/>
        <c:noMultiLvlLbl val="0"/>
      </c:catAx>
      <c:valAx>
        <c:axId val="6019812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08115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685C-BE37-4702-A232-31D24844B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1421-11B7-464F-8C15-F01E2E2CD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E3F5-2696-4BC0-97AA-3B332651B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D5B8-FC22-4018-8CC0-1BA22310D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0D16-225C-4695-BDD9-41F72787A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7049-18A5-4D2C-88DD-A9A745487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4720-1932-49B8-AEA4-B02E42CD6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1A4B-950C-4797-A672-9D79F14A3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0109-6231-407A-8D19-D0755AB13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2E43-E9C8-44BA-A07D-2813C3CD7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B636-9D60-4DAB-858C-49A88E567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2776-5F19-4551-B354-AA0399A24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BFDCFB-D047-4FE8-B728-A4B88E66FA7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