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06735"/>
        <c:axId val="83509191"/>
      </c:barChart>
      <c:catAx>
        <c:axId val="11606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09191"/>
        <c:crosses val="autoZero"/>
        <c:auto val="1"/>
        <c:lblAlgn val="ctr"/>
        <c:lblOffset val="100"/>
        <c:noMultiLvlLbl val="0"/>
      </c:catAx>
      <c:valAx>
        <c:axId val="83509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06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EE6-A1E2-47CE-AA23-E68BD292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108-B44C-4861-A4A5-DDC131F0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12A-BB8E-431C-A32C-032388C3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23F-0361-4BEA-A5D2-699EE8D5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F17-C9C2-4CBF-9162-0E354F63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E68-3BBB-45FD-BD8D-9FFD5364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58F-8257-43E7-8DD3-4AF7369F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8F3-1107-432F-AB66-6633AEF8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D6E-2FF3-4BC9-87E3-6188B301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2D9-B346-439F-A194-52ACCED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EAE-C985-43BC-876E-5629DAA1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4EA-FB15-482D-BBCE-885EBDE8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6F32C-8170-4537-8386-8877DFB24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