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313"/>
        <c:axId val="86447653"/>
      </c:barChart>
      <c:catAx>
        <c:axId val="2223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7653"/>
        <c:crosses val="autoZero"/>
        <c:auto val="1"/>
        <c:lblAlgn val="ctr"/>
        <c:lblOffset val="100"/>
        <c:noMultiLvlLbl val="0"/>
      </c:catAx>
      <c:valAx>
        <c:axId val="86447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9D5-3DE9-4CE4-9E0D-D660BD0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A60-4D6D-4913-B673-8C7A1AB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792-C14F-4B2D-A420-F232CEC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1FA-8D43-41AC-BCBB-DC9E1A8F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F85-59E0-406C-AAC1-B2A81D10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CBB-9214-4E36-893B-F9E26E4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6A1-0AD1-4686-8BC0-A45DBEE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885-F47F-4489-9F44-9E255EF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320-FAB1-4017-BAD4-D94C3278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CB1-B1A1-4EA3-83DD-B8BB20F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D5A-AEF1-4512-9052-909D818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5BA-F881-4350-AA7F-5CC02DB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64095-F409-428E-A065-4105AA96D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