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3297"/>
        <c:axId val="50711956"/>
      </c:barChart>
      <c:catAx>
        <c:axId val="9273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11956"/>
        <c:crosses val="autoZero"/>
        <c:auto val="1"/>
        <c:lblAlgn val="ctr"/>
        <c:lblOffset val="100"/>
        <c:noMultiLvlLbl val="0"/>
      </c:catAx>
      <c:valAx>
        <c:axId val="50711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3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C11-E317-4DC0-AC6C-AE104DB8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B15-33BB-4892-B080-69BBC2ED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78F-9E5F-4C37-B9B4-9EC50DFB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07E-49DB-45C1-924B-CE9812C2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428-531F-4BDC-A5F7-726B1D74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E61-88A9-46FC-95F4-5BE60DF2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469-9348-4C0A-8003-2B658B78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74F-47FB-44AD-A53B-FE1F2B9B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329-4AE1-49B6-8148-496024C4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ECA-2F70-4650-A022-7331E83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045-1AB1-4ED1-9315-C4131EC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615-62CD-4A29-9C78-B094C90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AB2E9-7435-49DC-903F-2E0F1524A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