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75350"/>
        <c:axId val="53883091"/>
      </c:barChart>
      <c:catAx>
        <c:axId val="97375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83091"/>
        <c:crosses val="autoZero"/>
        <c:auto val="1"/>
        <c:lblAlgn val="ctr"/>
        <c:lblOffset val="100"/>
        <c:noMultiLvlLbl val="0"/>
      </c:catAx>
      <c:valAx>
        <c:axId val="53883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75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D09-0B78-4D95-9078-0D5DCA8D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C67-B45B-4D53-BA7E-65F9E7CC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ED1-0763-4F9B-9F57-B1579BB4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710-D083-4428-A3AE-735FC25D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9B1-5051-40E0-9427-092AC568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7AD-0B4E-4314-B0EF-E5277FEF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9F6-47C8-44FB-9BC3-17CB1733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09E-F345-48DD-82F2-07C6CFF0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CB8-B0C4-4739-B46F-490B2F1E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DC1-7F55-47F7-BF3D-2BC28F02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431-1243-42DA-A56F-82CE762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5CC-0273-4C3C-A564-0F0B9955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DA705-1719-4DBD-AD65-0201C6B3BB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