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96977"/>
        <c:axId val="81562403"/>
      </c:barChart>
      <c:catAx>
        <c:axId val="60796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62403"/>
        <c:crosses val="autoZero"/>
        <c:auto val="1"/>
        <c:lblAlgn val="ctr"/>
        <c:lblOffset val="100"/>
        <c:noMultiLvlLbl val="0"/>
      </c:catAx>
      <c:valAx>
        <c:axId val="81562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96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C16-C3AA-4E45-9AC8-DD8C03A6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5A5-CE20-42E9-BE4A-CE613C9F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489-75A9-4D60-BDC5-4B7435D6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8ED-5159-4A4E-8727-27B95EF3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AED-568A-4EE0-8DE6-C242EF14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F57-D91D-40A0-921C-35C7B3A8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3A5-E4FF-4200-AAF2-3E8F3BA1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3CB-2924-450F-A87E-3F438926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CAA-3ABD-4F70-B8B3-1A992083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D23-83D3-4BCD-BD7B-E69C066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87D-BEBC-4855-A0B8-6A584F71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DE4-27C9-414F-B8C2-41668FA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DCCD3-0FD1-4854-BCAC-3934C4BB4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