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61885"/>
        <c:axId val="93511994"/>
      </c:barChart>
      <c:catAx>
        <c:axId val="44161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11994"/>
        <c:crosses val="autoZero"/>
        <c:auto val="1"/>
        <c:lblAlgn val="ctr"/>
        <c:lblOffset val="100"/>
        <c:noMultiLvlLbl val="0"/>
      </c:catAx>
      <c:valAx>
        <c:axId val="93511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61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5AF-0B4E-4C3D-A6E1-CF4E7D42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F80-FF48-4BCC-A004-DA92CE16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20C-4296-4360-A8AD-1CDE18E6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512-7499-4C0C-962E-53DE839A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24F-A5C3-4D8E-BB61-BB9CA82C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F1D-88A5-402E-BEAF-BFB31A30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444-42C4-4433-969D-A77C7724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49C-BDDF-4BAF-A31B-99868AFF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A16-201D-4E8B-81A9-24CD07ED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618-9295-4B68-A9DE-0E0998E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552-AB7D-4687-A5EB-D78F925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CD9-DD45-4A2A-B0B7-7ED7C1B2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A92C4-7A6E-4896-900B-0C8935BB1E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