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58787"/>
        <c:axId val="2448317"/>
      </c:barChart>
      <c:catAx>
        <c:axId val="95058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8317"/>
        <c:crosses val="autoZero"/>
        <c:auto val="1"/>
        <c:lblAlgn val="ctr"/>
        <c:lblOffset val="100"/>
        <c:noMultiLvlLbl val="0"/>
      </c:catAx>
      <c:valAx>
        <c:axId val="2448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8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A84-7715-4996-8572-0780A97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80A-C109-43FC-85EB-3EBEF2BA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AEB-885D-43A5-A304-368F58B1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29F-60DC-4F8D-AAD6-000EAA67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495-B4E3-416A-B3BB-842D2857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2E1-8F9E-4330-BB35-7207D8D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BE4-C1EF-4B03-AFB5-24053313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839-CB5F-416F-8FDC-A1409F0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EA2-7FB1-49EA-9CD3-1250B677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FDA-AD1F-4073-8EA8-C99AB6F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5F5-4F63-4E9F-A3D5-9AC074A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385-4430-4D84-8C4A-7BBA6C5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EA54D-8A57-4DAF-8532-5B52E2D9B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