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29037"/>
        <c:axId val="70312548"/>
      </c:barChart>
      <c:catAx>
        <c:axId val="69290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312548"/>
        <c:crosses val="autoZero"/>
        <c:auto val="1"/>
        <c:lblAlgn val="ctr"/>
        <c:lblOffset val="100"/>
        <c:noMultiLvlLbl val="0"/>
      </c:catAx>
      <c:valAx>
        <c:axId val="703125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90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C73D-5BF0-481D-93A9-93EFB1571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B196-9A0A-4A11-BB07-F716C78C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66D7-A339-4C86-98B9-C48F2A077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AFFB-A221-4DD2-A6C3-EC6D7F47D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0370-2D42-4FE6-B9E6-2EB21E1D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DE95-5D4C-40DB-B0EA-46D00D71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37C5-89A7-4017-9685-E5EA3E6A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BC6E-0BE2-4558-8F83-2595225C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F416-0422-4619-AC54-1B81E4A2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06F3-2796-4510-9626-697B18DC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D24E-FE1F-4068-AFA7-622264FB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BAD4-9899-4428-B372-A2A84F03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4B217-427B-4D1E-9A5D-7EE3B18C21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