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093733"/>
        <c:axId val="55512369"/>
      </c:barChart>
      <c:catAx>
        <c:axId val="630937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512369"/>
        <c:crosses val="autoZero"/>
        <c:auto val="1"/>
        <c:lblAlgn val="ctr"/>
        <c:lblOffset val="100"/>
        <c:noMultiLvlLbl val="0"/>
      </c:catAx>
      <c:valAx>
        <c:axId val="555123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0937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1476-F3B5-4BB4-8359-9386AD261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270D-E07B-412C-973B-54959CE23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8CD4-9614-4539-906D-BC564A005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2E8-3E5E-46D3-8634-1655411D2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B3EC-BB61-4B70-87CC-243220D3D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785-A1AF-4373-A924-DCE5CF8C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B7F4-3EAB-4835-8E3F-81BCD8F1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763C4-20B1-4A98-A039-89D3DF7C8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1E087-EF57-45E6-8347-4A280C4A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08122-E261-43FE-A721-83CE30B3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DE39-00DE-4CCE-BE4E-1FC2A056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38B3-7892-4CBB-8EB6-C15FB107A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F37515-98D8-4C67-986F-61FB3295CB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