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53723"/>
        <c:axId val="80671980"/>
      </c:barChart>
      <c:catAx>
        <c:axId val="63753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71980"/>
        <c:crosses val="autoZero"/>
        <c:auto val="1"/>
        <c:lblAlgn val="ctr"/>
        <c:lblOffset val="100"/>
        <c:noMultiLvlLbl val="0"/>
      </c:catAx>
      <c:valAx>
        <c:axId val="80671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53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378-958D-49F0-8B71-178613BF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87A-72CF-4DCB-9C0A-EB93EC74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6CD-BDD8-4583-B335-2FD1C4C8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81C-CBCF-4DF6-B396-6A08C0FF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B92-BF82-452C-9649-7F50008E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53E-127D-4B75-BBAC-5570C83C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79D-F21A-4D51-8B10-2342B74B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8B7-D091-4538-979C-7976BF5D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0E7-D6FA-4DB4-95E4-8EA763F0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D77-0D75-48E9-9D49-60EA5F4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566-48E7-4735-9B6E-BA00D54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110-3C19-4AD0-9F9F-EB1E6E3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B21F4-E355-4631-AA7F-E23EE9CB4B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