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84910"/>
        <c:axId val="24673963"/>
      </c:barChart>
      <c:catAx>
        <c:axId val="13584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73963"/>
        <c:crosses val="autoZero"/>
        <c:auto val="1"/>
        <c:lblAlgn val="ctr"/>
        <c:lblOffset val="100"/>
        <c:noMultiLvlLbl val="0"/>
      </c:catAx>
      <c:valAx>
        <c:axId val="24673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84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176-9B13-4524-BAA1-9E455BBE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BF8-0375-496B-BBB2-4BC077DC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C34-CF33-4237-BDB8-BF29E64C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349-089B-46DE-9A21-A3681A1B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D71-C0BD-47D1-9C67-FC69107F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3F4-5D52-4704-885E-E45C3520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F383-2684-4683-B4CE-FBBD9F51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598-EA89-4C76-8B5A-984D1E7D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55D-CC13-4DEE-B586-2B25BE68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238-76EF-4137-A019-6A4A0578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40D-ECDA-4866-ADF9-CCE7FEA8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761-A815-420E-B1DD-E72B3738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0BAA3-20B9-42B3-A6FE-8775B03632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