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8776"/>
        <c:axId val="56715407"/>
      </c:barChart>
      <c:catAx>
        <c:axId val="70538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15407"/>
        <c:crosses val="autoZero"/>
        <c:auto val="1"/>
        <c:lblAlgn val="ctr"/>
        <c:lblOffset val="100"/>
        <c:noMultiLvlLbl val="0"/>
      </c:catAx>
      <c:valAx>
        <c:axId val="56715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8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BFB-9C1F-47FB-9913-48FE537E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70C-475A-4708-8D07-73A595B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DC1-87BF-402D-9574-61D6A281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32C-A3C2-4EDD-AA5D-7E85C54A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96A-7532-4EE9-AB39-D8F6FB1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8DF-55FF-4302-9B01-8AD91512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F59-D5BA-41BE-A531-D955B13B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77A-9F46-418D-9C70-D801014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7BC-A1F6-4AC2-A8ED-079A3432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534-3FFC-43A5-8A5F-38DA0E6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136-A9B0-4B66-81C8-CF98559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965-C88E-4A35-92FD-C706AF5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5AF3-FECD-4D49-A57C-C834BD09B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