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75330"/>
        <c:axId val="65791555"/>
      </c:barChart>
      <c:catAx>
        <c:axId val="99575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91555"/>
        <c:crosses val="autoZero"/>
        <c:auto val="1"/>
        <c:lblAlgn val="ctr"/>
        <c:lblOffset val="100"/>
        <c:noMultiLvlLbl val="0"/>
      </c:catAx>
      <c:valAx>
        <c:axId val="65791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75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F53-524B-4E7F-A41F-01D9E150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EAF-036C-4FD1-A59D-E64C5184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770-E773-4A98-8E11-23BE2AC7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AFC-0CDD-4EB9-8C4B-4B4BD18E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A7B-DDCB-4359-95D3-82AAE94C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F8D-4E6D-46BF-AA31-09A74045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C92-37BB-4A3E-9331-27D3C1CD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974-8284-4D4C-8208-BDEA8E06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532-9C83-40E0-8E4E-D68D01EA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413-EAB5-4D5E-995C-D4C06DB2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364-CA71-467A-B55F-6D24A271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B69-B60B-4F34-A286-54993BF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10378-F525-4A3E-BD9E-B3FAF423A6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