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884212"/>
        <c:axId val="83328712"/>
      </c:barChart>
      <c:catAx>
        <c:axId val="388842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328712"/>
        <c:crosses val="autoZero"/>
        <c:auto val="1"/>
        <c:lblAlgn val="ctr"/>
        <c:lblOffset val="100"/>
        <c:noMultiLvlLbl val="0"/>
      </c:catAx>
      <c:valAx>
        <c:axId val="833287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842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BA60-61DA-43DD-A9A2-546E783E2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C7BB-8358-4636-B35F-D67F711A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3F56-C12E-49C7-A364-D9AACA4BF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D3E1-3FC5-4456-8091-760B63C90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E227-316E-4960-B94D-5144FD0C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72FF-96F1-4FE2-BD8F-DC810340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92B4-DCB3-4115-96AB-EAF36C69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7E16-5302-4CF7-9A1E-25B00B6B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E28E-FA38-4C6A-9189-8042F89F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F01D-4670-46B4-85E0-E3BBE890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9957-D71B-4831-9E61-5AA6F6A3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F479-F167-4E3D-97ED-CC31C208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213FF-38F5-4C17-89C5-5486956FD7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