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86715"/>
        <c:axId val="45341352"/>
      </c:barChart>
      <c:catAx>
        <c:axId val="54786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41352"/>
        <c:crosses val="autoZero"/>
        <c:auto val="1"/>
        <c:lblAlgn val="ctr"/>
        <c:lblOffset val="100"/>
        <c:noMultiLvlLbl val="0"/>
      </c:catAx>
      <c:valAx>
        <c:axId val="45341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6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2B8-4403-400A-A619-B2A7A870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E8E-EEF9-4219-9A6B-27ECF0F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975-7AD7-4577-8600-DBBF8522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220-9D20-4E67-97A3-DB43B23C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8CB-EA47-44D7-9D8F-7B03791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5FF-AB40-4F04-95CC-8CE5AEA5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453-6AF9-41E2-BD45-925C70C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BBA-4A79-40BC-8B2D-51C0895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5EE-721E-4510-8D61-BAD2783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78D-A396-4F8C-AEBB-2BD8F01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F04-4832-4B4B-B8BD-5ECF9F6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E11-1DAF-41E0-B87F-E5BE8E3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F979-C3C1-48B8-964B-253EB50D6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