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79901"/>
        <c:axId val="20354295"/>
      </c:barChart>
      <c:catAx>
        <c:axId val="92079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54295"/>
        <c:crosses val="autoZero"/>
        <c:auto val="1"/>
        <c:lblAlgn val="ctr"/>
        <c:lblOffset val="100"/>
        <c:noMultiLvlLbl val="0"/>
      </c:catAx>
      <c:valAx>
        <c:axId val="20354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79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C57-1BF1-4240-8E72-1FC15301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B3F9-A930-4E96-B705-ADF5B7D0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76F-58FD-4798-ACE7-D2A52B0D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32D-72F0-47F3-92BF-0F1926B1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CD55-E3C7-4E21-B788-E986315F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9544-9C4B-48F7-8C6C-F4DA9944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15D-4DCE-4D5B-AA58-49D21D4F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75E2-D48C-4BB0-A4DB-059DBB20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28D-E69C-473C-8F74-0D5B8F60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049-01AF-4F1E-9CB5-7566F953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C6BB-9F30-499A-B646-8EDB935D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053-9C7E-4EAA-A2A6-9BD7F0D1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C9BBC-735B-4AF1-A55A-FF8B177C90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