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05551"/>
        <c:axId val="52505640"/>
      </c:barChart>
      <c:catAx>
        <c:axId val="82005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5640"/>
        <c:crosses val="autoZero"/>
        <c:auto val="1"/>
        <c:lblAlgn val="ctr"/>
        <c:lblOffset val="100"/>
        <c:noMultiLvlLbl val="0"/>
      </c:catAx>
      <c:valAx>
        <c:axId val="52505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5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6CA-0891-4A46-A5B8-786FCED9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4D2-C51D-40CE-9CA7-FA2B2E0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91E-0943-4906-B6A6-B8AA027B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5D0-D5D9-46D3-B056-29392CB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650-81CF-49CA-9E34-56C08B9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5E5-6419-4706-8315-33ED9459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9F0-667B-4DC6-9306-3000AB0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B2A-6F30-468D-A7C2-DB16772B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BAC-BC77-475B-88D2-0C4928D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D3F-4940-402B-9E85-7DE623F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A55-2901-4334-B1E3-86F8947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1A4-FCDF-49FC-92F6-429F6EE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1273A-55D7-43DB-91A4-4762A4FF4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