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430728"/>
        <c:axId val="29094170"/>
      </c:barChart>
      <c:catAx>
        <c:axId val="434307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94170"/>
        <c:crosses val="autoZero"/>
        <c:auto val="1"/>
        <c:lblAlgn val="ctr"/>
        <c:lblOffset val="100"/>
        <c:noMultiLvlLbl val="0"/>
      </c:catAx>
      <c:valAx>
        <c:axId val="29094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4307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B54-4682-4DC4-8DA2-2D4ACD72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F9FA-B271-4625-ACFB-DC499E00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0D3A-3721-443E-81C3-C62B0608C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CF7-6A07-48A1-8337-A4AB55EF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7AC1-817D-4E83-8D31-71B93B16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B49-93DC-4473-86E3-3C37C169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5B52-AAA5-4BAC-A9B4-B825D789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593-BE84-4AF3-BCBB-D0CB55C7B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1085-02B6-4CC4-B0FA-0101E470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BCC6-A6EA-4A52-8B2E-F1647E62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9FB-4799-41F2-B2B3-24361E0D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A514-2602-439D-8EE5-97529836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AB69-32A9-4F6B-A351-8A850F354A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