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15320"/>
        <c:axId val="37262125"/>
      </c:barChart>
      <c:catAx>
        <c:axId val="85715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62125"/>
        <c:crosses val="autoZero"/>
        <c:auto val="1"/>
        <c:lblAlgn val="ctr"/>
        <c:lblOffset val="100"/>
        <c:noMultiLvlLbl val="0"/>
      </c:catAx>
      <c:valAx>
        <c:axId val="37262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15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7B6-F147-462B-B093-A64A11D1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CE49-11BB-4A5E-B744-04CFE426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463-B334-449F-BD6D-4907C3C3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FB2-511D-4C4F-BAE8-14047DAE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12FD-8E3C-46A8-9AC2-333CC711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A4E-A265-49BD-BD9F-6E922793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3BD-8573-4D72-B49A-4D040229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3F9-3139-4ADB-87A0-CA472E8F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1C1-9887-4414-8F2A-576D082B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D55A-D70B-4F39-AE95-631E0EBA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3A1-30D8-41AB-AE3A-CC7A88EB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4F8-B224-4D38-B909-F8F2DB79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AD935-D3BF-4FEA-BDEE-B66FCF0420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