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592092"/>
        <c:axId val="69526767"/>
      </c:barChart>
      <c:catAx>
        <c:axId val="97592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26767"/>
        <c:crosses val="autoZero"/>
        <c:auto val="1"/>
        <c:lblAlgn val="ctr"/>
        <c:lblOffset val="100"/>
        <c:noMultiLvlLbl val="0"/>
      </c:catAx>
      <c:valAx>
        <c:axId val="695267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92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EE1D-1B32-4BB1-B99A-9BE05098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6551-69C8-4C49-ABC3-BC480C3B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F8F8-DCAE-43CC-B2F1-1831702C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E3E-1659-4C67-8AB6-0189BFE9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E920-FF77-41FF-A0DA-B3C5350C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1978-3A1E-4032-BDCB-C2EDFD0A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776-DA36-4376-A334-958214E2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4E9A-CA81-4865-ACE4-DBDC882A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4C37-FC03-4253-902B-93D81151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48DB-E809-49A8-826F-33A59D7D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683-D055-47D3-BECF-7ADC6212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3D5C-5FF9-48AA-826E-3C129976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5F734-0170-4FEF-B3BA-11021F1A75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