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61327"/>
        <c:axId val="67004340"/>
      </c:barChart>
      <c:catAx>
        <c:axId val="99961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4340"/>
        <c:crosses val="autoZero"/>
        <c:auto val="1"/>
        <c:lblAlgn val="ctr"/>
        <c:lblOffset val="100"/>
        <c:noMultiLvlLbl val="0"/>
      </c:catAx>
      <c:valAx>
        <c:axId val="67004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1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075-2ABE-4018-9985-8213CC0B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288-4736-40CC-BF9E-2911147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A81-0E57-4C3B-A42B-A75A034F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928-CB59-4E02-829D-1D1FC87D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E55-E4AD-4134-BAA8-FB1519E6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3DA-7D5A-4206-8681-7C31787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2C4-8E77-4512-9DDD-BE02892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D75-707F-4573-8CAF-EDEA501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C35-1E5B-48DA-86AC-F2F09ADA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82A-FC64-4DED-A1EF-23FAEBD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A54-7317-47CA-B23F-D987599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C47-893E-4C69-962E-A4BB73A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CB7F-535F-43CF-B5CF-AE555C6D9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